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E8B01-4A8D-4E84-993F-9E9A1526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C43F-0089-4802-BFA5-84C6AFB9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36341-122F-42F8-AF38-48EB4B64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1FFEC-CF3B-4D8B-B2A4-01A0C64B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A4F9-3702-4DE2-A14B-2891F5CF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B4F4-146F-47A6-A9AC-3AB343AA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ED91-C04A-4ACA-8121-7D48DAE0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42BA-C3EF-4AD5-97DB-B9E2BF4F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9427-306C-4C85-B6E2-098C9F63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61E3-1738-412A-BAB1-67771FAD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8443-D308-42D1-BBC7-574D21CD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DBFDE-35D9-450A-B6CC-216DC64B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402F-A569-4BC8-9D02-849E6822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5DED-A5CC-46F0-9889-9BE1770C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8811-2AAC-4ED0-9D35-EA74E7B8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C12C-DF65-40D9-BE3C-2D822DC2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979C-D845-4742-AC42-AA047450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AB97C-F9DE-4AC6-8F5B-18DD837C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F2DA-B130-4EFE-A132-476B1A9D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BDF84-85DD-4428-9A20-FB9310CE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31632-1AC8-487E-A75D-179869D3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87B7-60B0-4FE0-B463-38EBB1EB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51EDB-2AE5-46BA-8324-182A6184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C2A1-BD55-4BE8-A193-9967F8E7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9631-138D-4C86-AE8B-9CA69A7357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F97A-940B-4D60-98E5-3F2DE886DC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echnologijos.lt/upload/image/technologijos/archyvas/kitas_kampas/kuryba/k_knygos/zinia_kuria_mums_pranesa_vanduo/101.jpg/f-101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nns.ru/uploads/posts/2010-01/1264106087_9785955008288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Вирус сквернослови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ы-дурак ( по-английс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9120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ы мне противен. Я убью тебя!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по-японс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46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 «Я убью тебя!» породили нечто похожее на человека с оружием в ру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9323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г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10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о «ангел» породило кольцо маленьких изящных кристалл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ангел"/>
          <p:cNvPicPr/>
          <p:nvPr/>
        </p:nvPicPr>
        <p:blipFill>
          <a:blip r:embed="rId1"/>
          <a:stretch/>
        </p:blipFill>
        <p:spPr>
          <a:xfrm>
            <a:off x="3635280" y="1484280"/>
            <a:ext cx="550872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ьявол ( по-японс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9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слово «Дьявол» – угрожающего вида взду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дьявол"/>
          <p:cNvPicPr/>
          <p:nvPr/>
        </p:nvPicPr>
        <p:blipFill>
          <a:blip r:embed="rId1"/>
          <a:stretch/>
        </p:blipFill>
        <p:spPr>
          <a:xfrm>
            <a:off x="3276720" y="1484280"/>
            <a:ext cx="529092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вай сделаем эт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84720" y="1980720"/>
            <a:ext cx="2602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жливое «Давай это сделаем» создает кристалл красивой фор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56163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лай эт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92720" y="1980720"/>
            <a:ext cx="3394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грубое «Делай это!» – нечто очень похожее на кристалл, образовавшийся под воздействием слова «Дьявол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468144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дрость ( по-японс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035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о «мудрость» на разных языках создало красивые правильные кристал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Мудрость"/>
          <p:cNvPicPr/>
          <p:nvPr/>
        </p:nvPicPr>
        <p:blipFill>
          <a:blip r:embed="rId1"/>
          <a:stretch/>
        </p:blipFill>
        <p:spPr>
          <a:xfrm>
            <a:off x="3635280" y="1484280"/>
            <a:ext cx="525780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ы хорош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вор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тыл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вод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ы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22560" y="1413000"/>
            <a:ext cx="6121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ы ду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91344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ы красивый ( несколько ра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62472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сару Эм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Картинка 2 из 21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484280"/>
            <a:ext cx="3365280" cy="5040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Картинка 5 из 24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1413000"/>
            <a:ext cx="352116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ы красивый ( много ра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827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м больше над водой произносили слова «Ты красивый», тем лучше сформированными получались кристал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2480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3399"/>
                </a:solidFill>
                <a:latin typeface="Arial"/>
              </a:rPr>
              <a:t>Результаты </a:t>
            </a:r>
            <a:br>
              <a:rPr sz="8000"/>
            </a:br>
            <a:br>
              <a:rPr sz="8000"/>
            </a:br>
            <a:r>
              <a:rPr b="1" i="1" lang="en-US" sz="8000" spc="-1" strike="noStrike">
                <a:solidFill>
                  <a:srgbClr val="cc3399"/>
                </a:solidFill>
                <a:latin typeface="Arial"/>
              </a:rPr>
              <a:t>анкетирова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635280" y="2708280"/>
            <a:ext cx="1368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Как ты думаешь, почему люди в своей речи употребляют бранные слова, ругательства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отят покрасовать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отят казаться «крутыми» и взросл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ем-то недоволь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ленький словарный запа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воспитан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вы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Arial"/>
              </a:rPr>
              <a:t>Если ты используешь в своей речи бранные слова (мат, ругательства), то объясни почему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ражение эмоций (злость, когда вывели из себ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чаянно вырва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тому что другие говор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вы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cc33"/>
                </a:solidFill>
                <a:latin typeface="Arial"/>
              </a:rPr>
              <a:t>Как часто ты произносишь эти слова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то   -  2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огда  -  13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когда  -  12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В каких ситуациях это происходит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-то или кто-то выводит из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то в разговорах со сверст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 время драк или выяснения 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ул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Arial"/>
              </a:rPr>
              <a:t>Как ты думаешь, плохо это или нет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а  -  26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т  -  1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00"/>
                </a:solidFill>
                <a:latin typeface="Arial"/>
              </a:rPr>
              <a:t>Что ты чувствуешь, когда произносишь такие слова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чего  -  3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л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ы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 кр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зн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Как ты думаешь, что чувствуют или думают другие люди, когда слышат, как ты произносишь бранные слова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зн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воспитанный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прия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охие родители, плохо воспи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443640" y="2637000"/>
            <a:ext cx="21607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Что ты чувствуешь, когда при тебе кто-то ругается матом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ра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прия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ы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охое 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отря кто ругается, по-раз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чего – 6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300720" y="2276640"/>
            <a:ext cx="21607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юбовь и призна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ы обертывали лист бумаги с напечатанными на нем словами вокруг бутылки с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учился кристалл совершенной формы. Это указывает на то, что любовь и признательность являются основ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395960" y="1484280"/>
            <a:ext cx="474804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От кого ты чаще всего слышишь подобные слова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др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старшекласс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ул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бомж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роди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одноклассников – 12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372360" y="2781360"/>
            <a:ext cx="216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14716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99ff"/>
                </a:solidFill>
                <a:latin typeface="Arial"/>
              </a:rPr>
              <a:t>Как ты думаешь, что нужно сделать, чтобы люди (дети) не употребляли бранных слов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каз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ъяснить, что это пло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зрослые не должны подавать при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ружить с хорошими, воспитанными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чать с себя, прекратить руг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чего, это выбор самого человека, привычка, невозможно остановить – 3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33"/>
                </a:solidFill>
                <a:latin typeface="Arial"/>
              </a:rPr>
              <a:t>Что нужно сделать, чтобы ты не употреблял эти слова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зн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рживать эмо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спитыват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ругаться сам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леить мне 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Хочешь ли ты, чтобы твои будущие дети в своей речи использовали бранные слова? Почему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560" y="2565360"/>
            <a:ext cx="748980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т, т.к. это плохо, некрасиво, ужасно, некультурно, позорит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Почему не стоит скверносло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, произносящий мат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оклинает себ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окружающих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 – это «формат»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удачников, слаб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неуравновешенных люд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трудняет общ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регулярном мате происходит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идоизменение ген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которые влияют не только на самого человека, но и на его потом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 ведет 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еград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 отражает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кудость лексического запа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говорящ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держивает умствен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Как избавиться от сквернословия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стать ругаться самому, выработать отвращение и брезгливость к сквернослов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бегать общения с людьми, которые употребляют нецензурные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итать русскую классическую литерату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поминать стихотворения, афориз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 rot="570600">
            <a:off x="883800" y="333360"/>
            <a:ext cx="7067520" cy="611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пасибо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з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внимание!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84720" y="4869000"/>
            <a:ext cx="24084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ставили колбу с водой на фотоснимки красивых объектов природы и древнего зодчества и затем фотографировали образовавшиеся кристаллы. Вот как вода реагировала на наши сним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одопад Вик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427280" cy="3673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397836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ященник читал целительную молитву, стоя лицом к озеру. Кристалл, полученный до молитвы, походил на изувеченное лицо. Кристалл же, полученный после, напоминал яркую звезд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Озерная вода после буддийской молитвы"/>
          <p:cNvPicPr/>
          <p:nvPr/>
        </p:nvPicPr>
        <p:blipFill>
          <a:blip r:embed="rId1"/>
          <a:stretch/>
        </p:blipFill>
        <p:spPr>
          <a:xfrm>
            <a:off x="5003640" y="1989000"/>
            <a:ext cx="3816360" cy="417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4392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(по –японс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819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показали воде надписи “спасибо” на разных языках. Во всех случаях получились красивые, завершенные кристал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спасибо"/>
          <p:cNvPicPr/>
          <p:nvPr/>
        </p:nvPicPr>
        <p:blipFill>
          <a:blip r:embed="rId1"/>
          <a:stretch/>
        </p:blipFill>
        <p:spPr>
          <a:xfrm>
            <a:off x="3708360" y="1557360"/>
            <a:ext cx="511164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( по - французс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спасибо"/>
          <p:cNvPicPr/>
          <p:nvPr/>
        </p:nvPicPr>
        <p:blipFill>
          <a:blip r:embed="rId1"/>
          <a:stretch/>
        </p:blipFill>
        <p:spPr>
          <a:xfrm>
            <a:off x="1258920" y="1876320"/>
            <a:ext cx="5905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( по-корейс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90400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ы-дурак ( по-японс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зывали во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корб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, кристал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ывали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708360" y="1628640"/>
            <a:ext cx="504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6:57:25Z</dcterms:created>
  <dc:creator>Елена</dc:creator>
  <dc:description/>
  <dc:language>en-US</dc:language>
  <cp:lastModifiedBy>Q</cp:lastModifiedBy>
  <dcterms:modified xsi:type="dcterms:W3CDTF">2012-10-11T16:59:35Z</dcterms:modified>
  <cp:revision>7</cp:revision>
  <dc:subject/>
  <dc:title>Слайд 1</dc:title>
</cp:coreProperties>
</file>